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0.gif" ContentType="image/gif"/>
  <Override PartName="/ppt/media/image11.jpeg" ContentType="image/jpeg"/>
  <Override PartName="/ppt/media/image9.gif" ContentType="image/gif"/>
  <Override PartName="/ppt/media/image8.jpeg" ContentType="image/jpeg"/>
  <Override PartName="/ppt/media/image5.png" ContentType="image/png"/>
  <Override PartName="/ppt/media/image7.gif" ContentType="image/gif"/>
  <Override PartName="/ppt/media/image6.gif" ContentType="image/gif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3.gif" ContentType="image/gif"/>
  <Override PartName="/ppt/media/image17.jpeg" ContentType="image/jpeg"/>
  <Override PartName="/ppt/media/image14.jpeg" ContentType="image/jpeg"/>
  <Override PartName="/ppt/media/image2.jpeg" ContentType="image/jpeg"/>
  <Override PartName="/ppt/media/image22.gif" ContentType="image/gif"/>
  <Override PartName="/ppt/media/image4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EA11-891C-4161-B9A7-64F9BC261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EE30-6ABA-4B34-98C8-590407AF5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C9CB-0959-42DF-AD5B-673CC3511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9A3A-A8E8-4BEB-8DC7-72B4BBB7A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0950-A336-402C-809B-938E577FE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2C47-4105-4A9A-9F97-66B5ADBB2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CC9D-1318-446D-831E-19E32B7B5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9A22-3609-4D04-BBB0-A8C743B0F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478A-196A-45DF-9805-6260DAAFD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05FC-96F2-4C8C-BE10-2FF947897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BECC-309A-4672-8D6B-B1EDEAF34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5753-FF14-4E43-A842-C9EE7A92E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85766-2618-47EA-A6D4-0CEC509E60C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6.gif"/><Relationship Id="rId6" Type="http://schemas.openxmlformats.org/officeDocument/2006/relationships/image" Target="../media/image6.gif"/><Relationship Id="rId7" Type="http://schemas.openxmlformats.org/officeDocument/2006/relationships/image" Target="../media/image6.gif"/><Relationship Id="rId8" Type="http://schemas.openxmlformats.org/officeDocument/2006/relationships/image" Target="../media/image6.gif"/><Relationship Id="rId9" Type="http://schemas.openxmlformats.org/officeDocument/2006/relationships/image" Target="../media/image6.gif"/><Relationship Id="rId10" Type="http://schemas.openxmlformats.org/officeDocument/2006/relationships/image" Target="../media/image6.gif"/><Relationship Id="rId11" Type="http://schemas.openxmlformats.org/officeDocument/2006/relationships/image" Target="../media/image6.gif"/><Relationship Id="rId12" Type="http://schemas.openxmlformats.org/officeDocument/2006/relationships/image" Target="../media/image6.gif"/><Relationship Id="rId13" Type="http://schemas.openxmlformats.org/officeDocument/2006/relationships/image" Target="../media/image6.gif"/><Relationship Id="rId14" Type="http://schemas.openxmlformats.org/officeDocument/2006/relationships/image" Target="../media/image6.gif"/><Relationship Id="rId15" Type="http://schemas.openxmlformats.org/officeDocument/2006/relationships/image" Target="../media/image6.gif"/><Relationship Id="rId16" Type="http://schemas.openxmlformats.org/officeDocument/2006/relationships/image" Target="../media/image6.gif"/><Relationship Id="rId17" Type="http://schemas.openxmlformats.org/officeDocument/2006/relationships/image" Target="../media/image7.gif"/><Relationship Id="rId1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image" Target="../media/image6.gif"/><Relationship Id="rId7" Type="http://schemas.openxmlformats.org/officeDocument/2006/relationships/image" Target="../media/image6.gif"/><Relationship Id="rId8" Type="http://schemas.openxmlformats.org/officeDocument/2006/relationships/image" Target="../media/image6.gif"/><Relationship Id="rId9" Type="http://schemas.openxmlformats.org/officeDocument/2006/relationships/image" Target="../media/image6.gif"/><Relationship Id="rId10" Type="http://schemas.openxmlformats.org/officeDocument/2006/relationships/image" Target="../media/image6.gif"/><Relationship Id="rId11" Type="http://schemas.openxmlformats.org/officeDocument/2006/relationships/image" Target="../media/image6.gif"/><Relationship Id="rId12" Type="http://schemas.openxmlformats.org/officeDocument/2006/relationships/image" Target="../media/image6.gif"/><Relationship Id="rId13" Type="http://schemas.openxmlformats.org/officeDocument/2006/relationships/image" Target="../media/image6.gif"/><Relationship Id="rId14" Type="http://schemas.openxmlformats.org/officeDocument/2006/relationships/image" Target="../media/image6.gif"/><Relationship Id="rId15" Type="http://schemas.openxmlformats.org/officeDocument/2006/relationships/image" Target="../media/image6.gif"/><Relationship Id="rId16" Type="http://schemas.openxmlformats.org/officeDocument/2006/relationships/image" Target="../media/image6.gif"/><Relationship Id="rId17" Type="http://schemas.openxmlformats.org/officeDocument/2006/relationships/image" Target="../media/image6.gif"/><Relationship Id="rId18" Type="http://schemas.openxmlformats.org/officeDocument/2006/relationships/image" Target="../media/image6.gif"/><Relationship Id="rId19" Type="http://schemas.openxmlformats.org/officeDocument/2006/relationships/image" Target="../media/image6.gif"/><Relationship Id="rId20" Type="http://schemas.openxmlformats.org/officeDocument/2006/relationships/image" Target="../media/image6.gif"/><Relationship Id="rId21" Type="http://schemas.openxmlformats.org/officeDocument/2006/relationships/image" Target="../media/image6.gif"/><Relationship Id="rId22" Type="http://schemas.openxmlformats.org/officeDocument/2006/relationships/image" Target="../media/image6.gif"/><Relationship Id="rId23" Type="http://schemas.openxmlformats.org/officeDocument/2006/relationships/image" Target="../media/image6.gif"/><Relationship Id="rId24" Type="http://schemas.openxmlformats.org/officeDocument/2006/relationships/image" Target="../media/image6.gif"/><Relationship Id="rId25" Type="http://schemas.openxmlformats.org/officeDocument/2006/relationships/image" Target="../media/image6.gif"/><Relationship Id="rId26" Type="http://schemas.openxmlformats.org/officeDocument/2006/relationships/image" Target="../media/image6.gif"/><Relationship Id="rId27" Type="http://schemas.openxmlformats.org/officeDocument/2006/relationships/image" Target="../media/image6.gif"/><Relationship Id="rId28" Type="http://schemas.openxmlformats.org/officeDocument/2006/relationships/image" Target="../media/image9.gif"/><Relationship Id="rId29" Type="http://schemas.openxmlformats.org/officeDocument/2006/relationships/image" Target="../media/image10.gif"/><Relationship Id="rId3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image" Target="../media/image6.gif"/><Relationship Id="rId7" Type="http://schemas.openxmlformats.org/officeDocument/2006/relationships/image" Target="../media/image6.gif"/><Relationship Id="rId8" Type="http://schemas.openxmlformats.org/officeDocument/2006/relationships/image" Target="../media/image6.gif"/><Relationship Id="rId9" Type="http://schemas.openxmlformats.org/officeDocument/2006/relationships/image" Target="../media/image6.gif"/><Relationship Id="rId10" Type="http://schemas.openxmlformats.org/officeDocument/2006/relationships/image" Target="../media/image6.gif"/><Relationship Id="rId11" Type="http://schemas.openxmlformats.org/officeDocument/2006/relationships/image" Target="../media/image9.gif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P1080301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2268360" y="404640"/>
            <a:ext cx="4191120" cy="631044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5"/>
          <p:cNvSpPr/>
          <p:nvPr/>
        </p:nvSpPr>
        <p:spPr>
          <a:xfrm>
            <a:off x="2268360" y="404640"/>
            <a:ext cx="4248360" cy="6453360"/>
          </a:xfrm>
          <a:prstGeom prst="rect">
            <a:avLst/>
          </a:prstGeom>
          <a:solidFill>
            <a:srgbClr val="6699ff"/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" dur="5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5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12"/>
          <p:cNvPicPr/>
          <p:nvPr/>
        </p:nvPicPr>
        <p:blipFill>
          <a:blip r:embed="rId1"/>
          <a:stretch/>
        </p:blipFill>
        <p:spPr>
          <a:xfrm>
            <a:off x="0" y="23760"/>
            <a:ext cx="9144000" cy="683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13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14"/>
          <p:cNvPicPr/>
          <p:nvPr/>
        </p:nvPicPr>
        <p:blipFill>
          <a:blip r:embed="rId1"/>
          <a:stretch/>
        </p:blipFill>
        <p:spPr>
          <a:xfrm>
            <a:off x="0" y="0"/>
            <a:ext cx="9325080" cy="70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rcRect l="883" t="11301" r="883" b="20296"/>
          <a:stretch/>
        </p:blipFill>
        <p:spPr>
          <a:xfrm>
            <a:off x="324000" y="1125360"/>
            <a:ext cx="8820000" cy="46054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900000" y="476280"/>
            <a:ext cx="1490760" cy="1474920"/>
          </a:xfrm>
          <a:prstGeom prst="cloudCallout">
            <a:avLst>
              <a:gd name="adj1" fmla="val -7509"/>
              <a:gd name="adj2" fmla="val 58287"/>
            </a:avLst>
          </a:prstGeom>
          <a:solidFill>
            <a:srgbClr val="bbe0e3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804000" y="404640"/>
            <a:ext cx="1584360" cy="1114560"/>
          </a:xfrm>
          <a:prstGeom prst="cloudCallout">
            <a:avLst>
              <a:gd name="adj1" fmla="val -28157"/>
              <a:gd name="adj2" fmla="val 60967"/>
            </a:avLst>
          </a:prstGeom>
          <a:solidFill>
            <a:srgbClr val="bbe0e3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940520" y="2133720"/>
            <a:ext cx="1203480" cy="1152360"/>
          </a:xfrm>
          <a:prstGeom prst="cloudCallout">
            <a:avLst>
              <a:gd name="adj1" fmla="val -21240"/>
              <a:gd name="adj2" fmla="val 107300"/>
            </a:avLst>
          </a:prstGeom>
          <a:solidFill>
            <a:srgbClr val="bbe0e3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050920" y="5589720"/>
            <a:ext cx="1513080" cy="647640"/>
          </a:xfrm>
          <a:prstGeom prst="cloudCallout">
            <a:avLst>
              <a:gd name="adj1" fmla="val 10967"/>
              <a:gd name="adj2" fmla="val 62990"/>
            </a:avLst>
          </a:prstGeom>
          <a:solidFill>
            <a:srgbClr val="bbe0e3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227640" y="5229360"/>
            <a:ext cx="1513080" cy="1079280"/>
          </a:xfrm>
          <a:prstGeom prst="cloudCallout">
            <a:avLst>
              <a:gd name="adj1" fmla="val -27125"/>
              <a:gd name="adj2" fmla="val 44560"/>
            </a:avLst>
          </a:prstGeom>
          <a:solidFill>
            <a:srgbClr val="bbe0e3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093080" y="1413000"/>
            <a:ext cx="2887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443640" y="6165720"/>
            <a:ext cx="2890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700360" y="6165720"/>
            <a:ext cx="431640" cy="482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32000" y="1844640"/>
            <a:ext cx="431640" cy="482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17970600">
            <a:off x="3707640" y="2205360"/>
            <a:ext cx="1513080" cy="1079280"/>
          </a:xfrm>
          <a:prstGeom prst="cloudCallout">
            <a:avLst>
              <a:gd name="adj1" fmla="val -27125"/>
              <a:gd name="adj2" fmla="val 44560"/>
            </a:avLst>
          </a:prstGeom>
          <a:solidFill>
            <a:srgbClr val="bbe0e3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Rectangle 3" descr=""/>
          <p:cNvPicPr/>
          <p:nvPr/>
        </p:nvPicPr>
        <p:blipFill>
          <a:blip r:embed="rId2"/>
          <a:stretch/>
        </p:blipFill>
        <p:spPr>
          <a:xfrm>
            <a:off x="3635280" y="765000"/>
            <a:ext cx="2400480" cy="29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6" dur="50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8" dur="5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1" dur="50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3" dur="5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0_1c6d6_45386b2d_L"/>
          <p:cNvPicPr/>
          <p:nvPr/>
        </p:nvPicPr>
        <p:blipFill>
          <a:blip r:embed="rId1"/>
          <a:stretch/>
        </p:blipFill>
        <p:spPr>
          <a:xfrm>
            <a:off x="0" y="-112680"/>
            <a:ext cx="9144000" cy="69706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623"/>
          <p:cNvPicPr/>
          <p:nvPr/>
        </p:nvPicPr>
        <p:blipFill>
          <a:blip r:embed="rId2"/>
          <a:stretch/>
        </p:blipFill>
        <p:spPr>
          <a:xfrm>
            <a:off x="5148360" y="2421000"/>
            <a:ext cx="2743200" cy="26096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8" descr="%D1%ED%E5%E3%E8%F0%FC %EF%F2%E8%F7%EA%E0 (Small)"/>
          <p:cNvPicPr/>
          <p:nvPr/>
        </p:nvPicPr>
        <p:blipFill>
          <a:blip r:embed="rId3">
            <a:lum bright="-6000"/>
          </a:blip>
          <a:stretch/>
        </p:blipFill>
        <p:spPr>
          <a:xfrm>
            <a:off x="5003640" y="4941720"/>
            <a:ext cx="936720" cy="9018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9" descr="%D1%ED%E5%E3%E8%F0%FC %EF%F2%E8%F7%EA%E0 (Small)"/>
          <p:cNvPicPr/>
          <p:nvPr/>
        </p:nvPicPr>
        <p:blipFill>
          <a:blip r:embed="rId4"/>
          <a:stretch/>
        </p:blipFill>
        <p:spPr>
          <a:xfrm>
            <a:off x="6156360" y="5157720"/>
            <a:ext cx="936720" cy="901800"/>
          </a:xfrm>
          <a:prstGeom prst="rect">
            <a:avLst/>
          </a:prstGeom>
          <a:ln w="0">
            <a:noFill/>
          </a:ln>
        </p:spPr>
      </p:pic>
      <p:sp>
        <p:nvSpPr>
          <p:cNvPr id="51" name="AutoShape 52"/>
          <p:cNvSpPr/>
          <p:nvPr/>
        </p:nvSpPr>
        <p:spPr>
          <a:xfrm>
            <a:off x="4067280" y="2852640"/>
            <a:ext cx="504720" cy="360360"/>
          </a:xfrm>
          <a:prstGeom prst="cloudCallout">
            <a:avLst>
              <a:gd name="adj1" fmla="val 674527"/>
              <a:gd name="adj2" fmla="val -50594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4" descr="521"/>
          <p:cNvPicPr/>
          <p:nvPr/>
        </p:nvPicPr>
        <p:blipFill>
          <a:blip r:embed="rId5"/>
          <a:stretch/>
        </p:blipFill>
        <p:spPr>
          <a:xfrm>
            <a:off x="7740720" y="404640"/>
            <a:ext cx="504720" cy="5050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7" descr="521"/>
          <p:cNvPicPr/>
          <p:nvPr/>
        </p:nvPicPr>
        <p:blipFill>
          <a:blip r:embed="rId6"/>
          <a:stretch/>
        </p:blipFill>
        <p:spPr>
          <a:xfrm>
            <a:off x="2484360" y="1700280"/>
            <a:ext cx="505080" cy="5047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0" descr="521"/>
          <p:cNvPicPr/>
          <p:nvPr/>
        </p:nvPicPr>
        <p:blipFill>
          <a:blip r:embed="rId7"/>
          <a:stretch/>
        </p:blipFill>
        <p:spPr>
          <a:xfrm>
            <a:off x="5435640" y="981000"/>
            <a:ext cx="504720" cy="5050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5" descr="521"/>
          <p:cNvPicPr/>
          <p:nvPr/>
        </p:nvPicPr>
        <p:blipFill>
          <a:blip r:embed="rId8"/>
          <a:stretch/>
        </p:blipFill>
        <p:spPr>
          <a:xfrm>
            <a:off x="900000" y="260280"/>
            <a:ext cx="505080" cy="5047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6" descr="521"/>
          <p:cNvPicPr/>
          <p:nvPr/>
        </p:nvPicPr>
        <p:blipFill>
          <a:blip r:embed="rId9"/>
          <a:stretch/>
        </p:blipFill>
        <p:spPr>
          <a:xfrm>
            <a:off x="8101080" y="2133720"/>
            <a:ext cx="504720" cy="5047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7" descr="521"/>
          <p:cNvPicPr/>
          <p:nvPr/>
        </p:nvPicPr>
        <p:blipFill>
          <a:blip r:embed="rId10"/>
          <a:stretch/>
        </p:blipFill>
        <p:spPr>
          <a:xfrm>
            <a:off x="6084720" y="404640"/>
            <a:ext cx="505080" cy="5050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8" descr="521"/>
          <p:cNvPicPr/>
          <p:nvPr/>
        </p:nvPicPr>
        <p:blipFill>
          <a:blip r:embed="rId11"/>
          <a:stretch/>
        </p:blipFill>
        <p:spPr>
          <a:xfrm>
            <a:off x="2700360" y="404640"/>
            <a:ext cx="504720" cy="5050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9" descr="521"/>
          <p:cNvPicPr/>
          <p:nvPr/>
        </p:nvPicPr>
        <p:blipFill>
          <a:blip r:embed="rId12"/>
          <a:stretch/>
        </p:blipFill>
        <p:spPr>
          <a:xfrm>
            <a:off x="2268360" y="3068640"/>
            <a:ext cx="505080" cy="5047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0" descr="521"/>
          <p:cNvPicPr/>
          <p:nvPr/>
        </p:nvPicPr>
        <p:blipFill>
          <a:blip r:embed="rId13"/>
          <a:stretch/>
        </p:blipFill>
        <p:spPr>
          <a:xfrm>
            <a:off x="5292720" y="3429000"/>
            <a:ext cx="504720" cy="5047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1" descr="521"/>
          <p:cNvPicPr/>
          <p:nvPr/>
        </p:nvPicPr>
        <p:blipFill>
          <a:blip r:embed="rId14"/>
          <a:stretch/>
        </p:blipFill>
        <p:spPr>
          <a:xfrm>
            <a:off x="4643280" y="0"/>
            <a:ext cx="505080" cy="5047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2" descr="521"/>
          <p:cNvPicPr/>
          <p:nvPr/>
        </p:nvPicPr>
        <p:blipFill>
          <a:blip r:embed="rId15"/>
          <a:stretch/>
        </p:blipFill>
        <p:spPr>
          <a:xfrm>
            <a:off x="8244000" y="1197000"/>
            <a:ext cx="504720" cy="5047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3" descr="521"/>
          <p:cNvPicPr/>
          <p:nvPr/>
        </p:nvPicPr>
        <p:blipFill>
          <a:blip r:embed="rId16"/>
          <a:stretch/>
        </p:blipFill>
        <p:spPr>
          <a:xfrm>
            <a:off x="5003640" y="2205000"/>
            <a:ext cx="505080" cy="5047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7" descr="631895443"/>
          <p:cNvPicPr/>
          <p:nvPr/>
        </p:nvPicPr>
        <p:blipFill>
          <a:blip r:embed="rId17"/>
          <a:stretch/>
        </p:blipFill>
        <p:spPr>
          <a:xfrm>
            <a:off x="7451640" y="2637000"/>
            <a:ext cx="1425600" cy="276840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78"/>
          <p:cNvSpPr/>
          <p:nvPr/>
        </p:nvSpPr>
        <p:spPr>
          <a:xfrm>
            <a:off x="0" y="-171360"/>
            <a:ext cx="9144000" cy="7029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" dur="5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04 0.05135 C -0.00434 0.05343 -0.00972 0.05551 -0.01406 0.07055 C -0.0184 0.08559 -0.02361 0.12098 -0.02465 0.14157 C -0.02569 0.16215 -0.02621 0.17626 -0.02083 0.19361 C -0.01545 0.21096 0.00122 0.24543 0.00781 0.24566 C 0.01441 0.24589 0.02518 0.20634 0.01927 0.19477 C 0.01337 0.1832 -0.01354 0.17881 -0.02743 0.17696 C -0.04132 0.17511 -0.05399 0.17626 -0.06371 0.18343 C -0.07344 0.19061 -0.07934 0.19384 -0.08559 0.22021 C -0.09184 0.24658 -0.10903 0.31829 -0.10087 0.34212 C -0.09271 0.36595 -0.06024 0.35507 -0.03698 0.36363 C -0.01371 0.37219 0.03281 0.39602 0.03924 0.39394 C 0.04566 0.39185 0.01771 0.35346 0.00209 0.35091 C -0.01354 0.34837 -0.0434 0.36433 -0.05416 0.3789 C -0.06493 0.39347 -0.06666 0.41869 -0.06267 0.43835 C -0.05868 0.45801 -0.03663 0.47097 -0.03038 0.49687 C -0.02413 0.52278 -0.01736 0.56396 -0.02465 0.59449 C -0.03194 0.62503 -0.07239 0.6551 -0.07413 0.67962 C -0.07587 0.70414 -0.04114 0.72889 -0.03507 0.74184 C -0.02899 0.7548 -0.03732 0.7548 -0.03802 0.75688 E">
                                      <p:cBhvr>
                                        <p:cTn id="32" dur="5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555 0.06523 C -0.00972 0.0798 -0.025 0.09438 -0.02587 0.10964 C -0.02674 0.12491 -0.00903 0.13856 -0.00017 0.1566 C 0.00868 0.17464 0.02378 0.20448 0.02743 0.21744 C 0.03108 0.23039 0.03142 0.2216 0.0217 0.23386 C 0.01198 0.24612 -0.0224 0.27642 -0.03056 0.291 C -0.03872 0.30557 -0.03542 0.31066 -0.02674 0.32153 C -0.01806 0.3324 0.00868 0.33287 0.0217 0.35577 C 0.03472 0.37867 0.06441 0.43858 0.05121 0.45847 C 0.03802 0.47837 -0.02813 0.47258 -0.05729 0.47513 C -0.08646 0.47767 -0.11024 0.46287 -0.12396 0.47374 C -0.13767 0.48461 -0.14479 0.51862 -0.13924 0.54106 C -0.13368 0.56349 -0.1092 0.59195 -0.09063 0.60837 C -0.07205 0.62479 -0.03038 0.62757 -0.02778 0.64006 C -0.02517 0.65255 -0.06059 0.67175 -0.07448 0.68309 C -0.08837 0.69442 -0.10538 0.7002 -0.11163 0.70853 C -0.11788 0.71686 -0.11233 0.72866 -0.1125 0.73259 E">
                                      <p:cBhvr>
                                        <p:cTn id="34" dur="5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56 0.05691 C -0.00278 0.05275 -0.00695 0.04881 -0.00886 0.0657 C -0.01077 0.08259 -0.01372 0.13232 -0.00973 0.15846 C -0.00573 0.1846 0.02083 0.20241 0.01493 0.223 C 0.00902 0.24359 -0.03264 0.26093 -0.04497 0.28152 C -0.0573 0.30211 -0.0599 0.32501 -0.05938 0.34606 C -0.05886 0.36711 -0.06441 0.39718 -0.04219 0.40829 C -0.01997 0.41939 0.04253 0.4032 0.07395 0.41222 C 0.10538 0.42124 0.15399 0.44391 0.14635 0.46288 C 0.13871 0.48185 0.05538 0.50937 0.02829 0.52626 C 0.00121 0.54315 -0.02344 0.5517 -0.0165 0.56443 C -0.00955 0.57715 0.0368 0.59542 0.07013 0.6026 C 0.10347 0.60977 0.15399 0.60421 0.1835 0.60745 C 0.21302 0.61069 0.225 0.61717 0.24739 0.62272 C 0.26979 0.62827 0.29757 0.63729 0.3177 0.64053 C 0.33819 0.64377 0.36076 0.64215 0.36909 0.64192 E">
                                      <p:cBhvr>
                                        <p:cTn id="36" dur="5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076 0.05598 C -0.02066 0.06245 -0.03055 0.06916 -0.03368 0.08258 C -0.0368 0.09599 -0.03264 0.12468 -0.02986 0.13717 C -0.02708 0.14966 -0.02326 0.14295 -0.01649 0.15753 C -0.00972 0.1721 0.01302 0.20842 0.01111 0.22484 C 0.0092 0.24126 -0.01805 0.24242 -0.02795 0.25653 C -0.03785 0.27064 -0.04583 0.29308 -0.04791 0.30974 C -0.05 0.32639 -0.04896 0.34605 -0.04028 0.35646 C -0.0316 0.36687 -0.00851 0.35901 0.00452 0.37196 C 0.01754 0.38468 0.03455 0.41707 0.03785 0.4328 C 0.04115 0.44853 0.03368 0.455 0.02448 0.46588 C 0.01528 0.47675 -0.0066 0.48207 -0.01753 0.49757 C -0.02847 0.51307 -0.04149 0.54036 -0.04132 0.55841 C -0.04114 0.57622 -0.03107 0.58894 -0.01649 0.60398 C -0.00191 0.61924 0.04028 0.63382 0.04636 0.64955 C 0.05243 0.66574 0.0316 0.67985 0.01962 0.69905 C 0.00764 0.71848 -0.02239 0.74462 -0.02604 0.76636 C -0.02969 0.78811 -0.00677 0.8191 -0.00226 0.82974 E">
                                      <p:cBhvr>
                                        <p:cTn id="38" dur="5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51 0.04441 C 0.00902 0.04418 0.00295 0.04395 0.00069 0.05829 C -0.00157 0.07263 -0.01927 0.10271 0.00173 0.1307 C 0.02274 0.15869 0.11649 0.19061 0.12656 0.226 C 0.13663 0.26139 0.08211 0.3294 0.0618 0.34397 C 0.04149 0.35855 0.02812 0.32408 0.00451 0.31344 C -0.0191 0.30257 -0.03594 0.28869 -0.08021 0.2792 C -0.12448 0.26972 -0.22257 0.23525 -0.26111 0.2563 C -0.29966 0.27735 -0.31354 0.36572 -0.31164 0.4062 C -0.30973 0.44668 -0.27709 0.49225 -0.24966 0.49988 C -0.22223 0.50752 -0.15087 0.48184 -0.14688 0.45177 C -0.14289 0.42147 -0.18924 0.34768 -0.22587 0.31969 C -0.2625 0.2917 -0.33646 0.24659 -0.36684 0.28429 C -0.39723 0.322 -0.44045 0.49595 -0.40782 0.54569 C -0.37518 0.59542 -0.23177 0.59403 -0.17066 0.58247 C -0.10955 0.5709 -0.10313 0.47791 -0.04115 0.47583 C 0.02083 0.47375 0.16493 0.53967 0.20173 0.56974 C 0.23854 0.59981 0.21024 0.63382 0.17986 0.65603 C 0.14948 0.67823 0.03941 0.73629 0.01979 0.70298 C 0.00017 0.66967 0.01198 0.50497 0.0618 0.45547 C 0.11163 0.40597 0.27552 0.39093 0.31892 0.4062 C 0.36232 0.42147 0.32552 0.47282 0.3217 0.54684 C 0.31788 0.62087 0.30347 0.79297 0.296 0.8501 C 0.28854 0.9077 0.28073 0.8848 0.27691 0.89082 E">
                                      <p:cBhvr>
                                        <p:cTn id="45" dur="5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86 0.05528 C -0.0033 0.05482 -0.00747 0.05459 -0.00868 0.06292 C -0.0099 0.07124 -0.01059 0.09391 -0.00677 0.10479 C -0.00295 0.11566 0.00816 0.11797 0.01423 0.12884 C 0.02031 0.13971 0.0283 0.15753 0.02951 0.16956 C 0.03073 0.18158 0.02777 0.19153 0.02187 0.20125 C 0.01597 0.21096 0.00208 0.2179 -0.00573 0.22785 C -0.01354 0.23779 -0.0217 0.24867 -0.02483 0.2607 C -0.02795 0.27272 -0.03004 0.28915 -0.02483 0.30025 C -0.01962 0.31135 -0.00417 0.31552 0.00659 0.32801 C 0.01736 0.3405 0.03385 0.35993 0.03993 0.37497 C 0.046 0.39 0.05156 0.40088 0.04288 0.41822 C 0.0342 0.43557 0.00034 0.46796 -0.0125 0.47906 C -0.02535 0.49017 -0.02483 0.4742 -0.03438 0.48531 C -0.04393 0.49641 -0.07032 0.52209 -0.06962 0.54638 C -0.06893 0.57067 -0.04653 0.61554 -0.03056 0.63127 C -0.01459 0.647 0.01007 0.63428 0.02656 0.64145 C 0.04305 0.64862 0.06406 0.65926 0.06857 0.67453 C 0.07309 0.6898 0.06771 0.7201 0.0533 0.73282 C 0.03889 0.74554 -0.00295 0.74207 -0.01823 0.75063 C -0.03351 0.75919 -0.0349 0.77909 -0.0382 0.78487 E">
                                      <p:cBhvr>
                                        <p:cTn id="50" dur="5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267 0.04649 C 0.00955 0.04557 0.00642 0.04464 0.0033 0.04765 C 0.00017 0.05066 -0.00677 0.05459 -0.00625 0.06407 C -0.00573 0.07356 0.00277 0.09322 0.00694 0.10478 C 0.01111 0.11635 0.01562 0.1226 0.0184 0.13393 C 0.02118 0.14527 0.02482 0.16261 0.02326 0.17326 C 0.0217 0.1839 0.01666 0.19037 0.00885 0.19731 C 0.00104 0.20425 -0.01545 0.20749 -0.02344 0.21512 C -0.03143 0.22276 -0.03785 0.21767 -0.03872 0.24311 C -0.03959 0.26856 -0.03542 0.34258 -0.02917 0.36733 C -0.02292 0.39208 -0.00834 0.38283 -0.00157 0.39162 C 0.00521 0.40041 0.01823 0.4062 0.0118 0.41938 C 0.00538 0.43257 -0.01945 0.4675 -0.04063 0.47143 C -0.06181 0.47536 -0.09202 0.44112 -0.11493 0.44228 C -0.13785 0.44344 -0.17813 0.45246 -0.17778 0.47906 C -0.17743 0.50566 -0.1099 0.56696 -0.11302 0.60212 C -0.11615 0.63728 -0.17049 0.66713 -0.1967 0.68979 C -0.22292 0.71246 -0.23733 0.72704 -0.27032 0.73791 C -0.30313 0.74878 -0.35973 0.75225 -0.39497 0.75572 C -0.43021 0.75919 -0.44462 0.76174 -0.4816 0.75827 C -0.51858 0.7548 -0.58698 0.7393 -0.61684 0.73421 C -0.6467 0.72912 -0.65157 0.72843 -0.66059 0.72773 C -0.66962 0.72704 -0.66927 0.72958 -0.67101 0.73028 E">
                                      <p:cBhvr>
                                        <p:cTn id="58" dur="5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1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6.42609E-006 C -0.00087 0.003 -0.00139 0.00624 -0.0066 0.0178 C -0.01181 0.02937 -0.02066 0.0754 -0.03143 0.06985 C -0.04219 0.0643 -0.06806 0.01364 -0.07136 -0.01528 C -0.07465 -0.04419 -0.05833 -0.07981 -0.05139 -0.1041 C -0.04445 -0.12839 -0.02379 -0.13579 -0.02952 -0.16101 C -0.03524 -0.18622 -0.06476 -0.24775 -0.08559 -0.25492 C -0.10643 -0.26209 -0.1309 -0.23827 -0.15417 -0.20426 C -0.17743 -0.17026 -0.22379 -0.08467 -0.2257 -0.05067 C -0.22778 -0.01666 -0.17518 0.01873 -0.16649 -6.42609E-006 C -0.15781 -0.01875 -0.16372 -0.12515 -0.17327 -0.16355 C -0.18281 -0.20195 -0.18281 -0.20265 -0.22379 -0.22971 C -0.26476 -0.25677 -0.36268 -0.30767 -0.41893 -0.32617 C -0.47518 -0.34468 -0.5184 -0.34722 -0.56094 -0.34005 C -0.60347 -0.33288 -0.64097 -0.31229 -0.67413 -0.28291 C -0.70729 -0.25354 -0.75868 -0.21629 -0.7599 -0.16355 C -0.76111 -0.11081 -0.71806 0.00809 -0.68177 0.03423 C -0.64549 0.06037 -0.57361 -0.06038 -0.54184 -0.00625 C -0.51024 0.04788 -0.45851 0.34628 -0.49236 0.35923 C -0.52622 0.37219 -0.7066 0.1249 -0.74462 0.07101 C -0.78264 0.01711 -0.73056 0.04834 -0.72083 0.03562 C -0.71111 0.02289 -0.73472 0.01526 -0.68663 -0.0051 C -0.63854 -0.02545 -0.49618 -0.09369 -0.43229 -0.08629 C -0.36858 -0.07889 -0.33351 -0.02268 -0.30382 0.03932 C -0.27413 0.10131 -0.2467 0.21512 -0.25434 0.28567 C -0.26163 0.35623 -0.33802 0.43233 -0.34844 0.46333 C -0.35903 0.49432 -0.325 0.47096 -0.31702 0.47212 C -0.3092 0.47327 -0.30382 0.47142 -0.30104 0.47073 E">
                                      <p:cBhvr>
                                        <p:cTn id="63" dur="5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6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222 0.04164 C 0.02534 0.0583 0.02847 0.07518 0.03281 0.08351 C 0.03698 0.09184 0.0427 0.09438 0.04878 0.09115 C 0.05503 0.08791 0.06354 0.0768 0.07083 0.06454 C 0.07795 0.05228 0.09427 0.03979 0.09166 0.01759 C 0.08906 -0.00462 0.06909 -0.03932 0.05451 -0.0687 C 0.0401 -0.09808 0.01389 -0.133 0.00399 -0.15891 C -0.00591 -0.18482 -0.01424 -0.20101 -0.00434 -0.22368 C 0.00538 -0.24635 0.04027 -0.30164 0.06232 -0.2947 C 0.0842 -0.28776 0.11024 -0.21605 0.12777 -0.18158 C 0.14566 -0.14712 0.17205 -0.1182 0.16892 -0.0879 C 0.1658 -0.05759 0.13281 -0.00832 0.10885 0.00093 C 0.08489 0.01018 0.05781 0.00162 0.02517 -0.03192 C -0.00764 -0.06546 -0.04966 -0.16099 -0.0882 -0.20078 C -0.12691 -0.24057 -0.15122 -0.25838 -0.2073 -0.27041 C -0.26337 -0.28244 -0.38837 -0.29146 -0.42431 -0.27295 C -0.46025 -0.25445 -0.42934 -0.18922 -0.42344 -0.15891 C -0.41754 -0.12861 -0.40382 -0.11913 -0.38907 -0.09044 C -0.37431 -0.06176 -0.35625 -0.02058 -0.3349 0.01365 C -0.31355 0.04789 -0.27309 0.04534 -0.26077 0.1152 C -0.24827 0.18506 -0.25087 0.37035 -0.26077 0.43257 C -0.27066 0.4948 -0.28733 0.49665 -0.31962 0.48832 C -0.35191 0.48 -0.4283 0.42101 -0.45486 0.38307 C -0.48143 0.34514 -0.47483 0.30072 -0.47952 0.26001 C -0.4842 0.2193 -0.48559 0.16517 -0.48334 0.1381 C -0.48108 0.11104 -0.47726 0.11196 -0.46632 0.09739 C -0.45539 0.08282 -0.44341 0.06015 -0.41771 0.05043 C -0.39202 0.04072 -0.34861 0.0354 -0.31198 0.0391 C -0.27535 0.0428 -0.23056 0.05714 -0.19775 0.07218 C -0.16511 0.08721 -0.13473 0.10896 -0.11598 0.12931 C -0.09688 0.14967 -0.09306 0.1691 -0.08455 0.19385 C -0.0757 0.2186 -0.06719 0.25053 -0.06337 0.27759 C -0.05973 0.30465 -0.06545 0.33033 -0.06146 0.35624 C -0.05764 0.38215 -0.0448 0.42055 -0.0408 0.43373 E">
                                      <p:cBhvr>
                                        <p:cTn id="68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21 0.06037 C -0.00087 0.05667 -0.00296 0.05297 -0.00834 0.06407 C -0.01407 0.07518 -0.03698 0.10479 -0.03212 0.12745 C -0.02726 0.15012 0.01163 0.17673 0.02118 0.19986 C 0.03055 0.22299 0.0368 0.24844 0.02413 0.26578 C 0.01128 0.28313 -0.0198 0.30719 -0.05504 0.30395 C -0.09028 0.30071 -0.15782 0.25491 -0.18733 0.24566 C -0.21702 0.23641 -0.22101 0.2186 -0.23299 0.2482 C -0.24497 0.27781 -0.27153 0.38306 -0.25973 0.42331 C -0.24792 0.46356 -0.18803 0.47675 -0.16164 0.48924 C -0.13559 0.50173 -0.13316 0.49711 -0.10261 0.49803 C -0.07205 0.49896 0.00833 0.46888 0.02222 0.49549 C 0.03593 0.52209 0.00659 0.63659 -0.02084 0.6581 C -0.04809 0.67962 -0.09341 0.66111 -0.14254 0.62503 C -0.19167 0.58848 -0.25747 0.48207 -0.31598 0.43974 C -0.37448 0.39741 -0.45643 0.356 -0.49306 0.37127 C -0.52969 0.3863 -0.54445 0.48138 -0.53594 0.52972 C -0.52743 0.57784 -0.46112 0.62086 -0.44254 0.66157 C -0.42396 0.70229 -0.42535 0.75387 -0.42448 0.77353 C -0.42362 0.79273 -0.4349 0.7777 -0.43681 0.77839 E">
                                      <p:cBhvr>
                                        <p:cTn id="70" dur="5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3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43 0.03771 C -0.00191 0.03771 -0.00138 0.03794 -0.00243 0.05529 C -0.00347 0.07264 0.00365 0.1152 -0.00902 0.14157 C -0.0217 0.16794 -0.05694 0.20611 -0.07847 0.21282 C -0.1 0.21953 -0.1217 0.21051 -0.13767 0.18228 C -0.15364 0.15406 -0.18194 0.09045 -0.17482 0.04395 C -0.1677 -0.00254 -0.11788 -0.06662 -0.09479 -0.09692 C -0.0717 -0.12722 -0.07031 -0.14064 -0.03663 -0.1374 C -0.00295 -0.13416 0.07483 -0.11635 0.10712 -0.07795 C 0.13941 -0.03955 0.15296 0.05182 0.15764 0.09346 C 0.16233 0.13509 0.1566 0.15614 0.13577 0.17211 C 0.11494 0.18807 0.06615 0.17511 0.03282 0.18992 C -0.00052 0.20472 -0.0677 0.21814 -0.06423 0.26093 C -0.06076 0.30373 0.00434 0.41569 0.05382 0.44622 C 0.1033 0.47676 0.20122 0.46912 0.23282 0.44368 C 0.26441 0.41823 0.24532 0.34652 0.24341 0.29401 C 0.2415 0.2415 0.21546 0.19038 0.22153 0.12908 C 0.22761 0.06778 0.25417 -0.0259 0.27952 -0.07402 C 0.30487 -0.12213 0.33959 -0.15637 0.37379 -0.15915 C 0.40799 -0.16192 0.46355 -0.1182 0.48438 -0.09044 C 0.50521 -0.06268 0.48369 -0.02475 0.49862 0.00717 C 0.51355 0.0391 0.55261 0.09137 0.57379 0.10109 C 0.59497 0.11081 0.61806 0.07241 0.62622 0.06547 C 0.63438 0.05853 0.6283 0.05876 0.6224 0.05922 E">
                                      <p:cBhvr>
                                        <p:cTn id="75" dur="2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34 0.05182 C 0.00225 0.05876 0.00868 0.06593 0.01267 0.08212 C 0.01666 0.09878 0.02395 0.13209 0.01944 0.15083 C 0.01493 0.16956 0.00538 0.19038 -0.01476 0.19524 C -0.0349 0.2001 -0.07934 0.1994 -0.10157 0.17997 C -0.12379 0.16054 -0.14271 0.1041 -0.14809 0.07842 C -0.15365 0.05251 -0.14549 0.04442 -0.13507 0.0236 C -0.12431 0.00301 -0.09723 -0.02937 -0.08438 -0.04464 C -0.0717 -0.05991 -0.09028 -0.06106 -0.05782 -0.06754 C -0.025 -0.07402 0.07291 -0.08049 0.1118 -0.08396 C 0.15069 -0.08743 0.15277 -0.06916 0.17569 -0.08905 C 0.19861 -0.10895 0.26007 -0.18713 0.24895 -0.20333 C 0.23784 -0.21952 0.14427 -0.21165 0.10902 -0.18667 C 0.07378 -0.16169 0.05486 -0.10964 0.03732 -0.05343 C 0.01996 0.00278 0.03194 0.1041 0.0033 0.15083 C -0.02552 0.19732 -0.09636 0.22647 -0.13507 0.22554 C -0.17344 0.22462 -0.20365 0.16864 -0.2283 0.14574 C -0.25278 0.12284 -0.27136 0.11705 -0.28143 0.0886 C -0.2915 0.06015 -0.2842 0.02799 -0.2882 -0.02567 C -0.29254 -0.07934 -0.29497 -0.19569 -0.30643 -0.23363 C -0.31789 -0.27157 -0.32622 -0.26301 -0.35677 -0.25399 C -0.38733 -0.24496 -0.45903 -0.21975 -0.49011 -0.17927 C -0.52118 -0.13879 -0.554 -0.07633 -0.54341 -0.0104 C -0.53282 0.05552 -0.45052 0.14666 -0.42622 0.21675 C -0.40191 0.28661 -0.38716 0.36364 -0.39775 0.41083 C -0.40834 0.45802 -0.47188 0.47791 -0.49011 0.49943 C -0.50834 0.52117 -0.50782 0.53042 -0.5073 0.54014 E">
                                      <p:cBhvr>
                                        <p:cTn id="77" dur="5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0.04719 C -0.00243 0.05876 -0.00277 0.07056 -0.00746 0.07518 C -0.01215 0.07981 -0.01562 0.0768 -0.03038 0.07518 C -0.04479 0.07356 -0.07673 0.06107 -0.09496 0.065 C -0.11336 0.06894 -0.1375 0.08536 -0.14062 0.09924 C -0.14375 0.11312 -0.12621 0.13533 -0.11423 0.14874 C -0.10208 0.16216 -0.07586 0.16308 -0.06753 0.18043 C -0.05902 0.19778 -0.0585 0.2341 -0.06284 0.25284 C -0.06701 0.27157 -0.07326 0.28638 -0.09323 0.29355 C -0.11302 0.30072 -0.1618 0.31159 -0.18264 0.29609 C -0.20347 0.2806 -0.19982 0.23664 -0.21788 0.20079 C -0.23593 0.16493 -0.26788 0.09716 -0.29132 0.08166 C -0.31458 0.06616 -0.32847 0.09531 -0.35694 0.10826 C -0.38541 0.12122 -0.4434 0.1344 -0.46163 0.15892 C -0.47986 0.18344 -0.49357 0.2193 -0.46649 0.25538 C -0.43941 0.29147 -0.34496 0.35624 -0.29895 0.3759 C -0.25277 0.39556 -0.221 0.38006 -0.18923 0.37335 C -0.15746 0.36665 -0.13784 0.35786 -0.10833 0.33542 C -0.07882 0.31298 -0.03958 0.25978 -0.01215 0.23896 C 0.01528 0.21814 0.03299 0.21004 0.05625 0.21097 C 0.07952 0.21189 0.10886 0.20727 0.12778 0.24405 C 0.14671 0.28083 0.18837 0.40667 0.1698 0.43188 C 0.15122 0.45709 0.08368 0.4261 0.0165 0.3951 E">
                                      <p:cBhvr>
                                        <p:cTn id="81" dur="5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6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3.7037E-007 L 0.30329 0.45694 E">
                                      <p:cBhvr>
                                        <p:cTn id="90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78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521"/>
          <p:cNvPicPr/>
          <p:nvPr/>
        </p:nvPicPr>
        <p:blipFill>
          <a:blip r:embed="rId2"/>
          <a:stretch/>
        </p:blipFill>
        <p:spPr>
          <a:xfrm>
            <a:off x="8172360" y="1413000"/>
            <a:ext cx="505080" cy="5047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521"/>
          <p:cNvPicPr/>
          <p:nvPr/>
        </p:nvPicPr>
        <p:blipFill>
          <a:blip r:embed="rId3"/>
          <a:stretch/>
        </p:blipFill>
        <p:spPr>
          <a:xfrm>
            <a:off x="6443640" y="907920"/>
            <a:ext cx="504720" cy="505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521"/>
          <p:cNvPicPr/>
          <p:nvPr/>
        </p:nvPicPr>
        <p:blipFill>
          <a:blip r:embed="rId4"/>
          <a:stretch/>
        </p:blipFill>
        <p:spPr>
          <a:xfrm>
            <a:off x="4932360" y="692280"/>
            <a:ext cx="504720" cy="5047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521"/>
          <p:cNvPicPr/>
          <p:nvPr/>
        </p:nvPicPr>
        <p:blipFill>
          <a:blip r:embed="rId5"/>
          <a:stretch/>
        </p:blipFill>
        <p:spPr>
          <a:xfrm>
            <a:off x="6084720" y="1989000"/>
            <a:ext cx="505080" cy="5050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7" descr="521"/>
          <p:cNvPicPr/>
          <p:nvPr/>
        </p:nvPicPr>
        <p:blipFill>
          <a:blip r:embed="rId6"/>
          <a:stretch/>
        </p:blipFill>
        <p:spPr>
          <a:xfrm>
            <a:off x="539640" y="476280"/>
            <a:ext cx="505080" cy="5047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8" descr="521"/>
          <p:cNvPicPr/>
          <p:nvPr/>
        </p:nvPicPr>
        <p:blipFill>
          <a:blip r:embed="rId7"/>
          <a:stretch/>
        </p:blipFill>
        <p:spPr>
          <a:xfrm>
            <a:off x="2340000" y="260280"/>
            <a:ext cx="504720" cy="5047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9" descr="521"/>
          <p:cNvPicPr/>
          <p:nvPr/>
        </p:nvPicPr>
        <p:blipFill>
          <a:blip r:embed="rId8"/>
          <a:stretch/>
        </p:blipFill>
        <p:spPr>
          <a:xfrm>
            <a:off x="6659640" y="2421000"/>
            <a:ext cx="504720" cy="5047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0" descr="521"/>
          <p:cNvPicPr/>
          <p:nvPr/>
        </p:nvPicPr>
        <p:blipFill>
          <a:blip r:embed="rId9"/>
          <a:stretch/>
        </p:blipFill>
        <p:spPr>
          <a:xfrm>
            <a:off x="5796000" y="3933720"/>
            <a:ext cx="504720" cy="5050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1" descr="521"/>
          <p:cNvPicPr/>
          <p:nvPr/>
        </p:nvPicPr>
        <p:blipFill>
          <a:blip r:embed="rId10"/>
          <a:stretch/>
        </p:blipFill>
        <p:spPr>
          <a:xfrm>
            <a:off x="1835280" y="3789360"/>
            <a:ext cx="504720" cy="5047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2" descr="521"/>
          <p:cNvPicPr/>
          <p:nvPr/>
        </p:nvPicPr>
        <p:blipFill>
          <a:blip r:embed="rId11"/>
          <a:stretch/>
        </p:blipFill>
        <p:spPr>
          <a:xfrm>
            <a:off x="1763640" y="5877000"/>
            <a:ext cx="504720" cy="5047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3" descr="521"/>
          <p:cNvPicPr/>
          <p:nvPr/>
        </p:nvPicPr>
        <p:blipFill>
          <a:blip r:embed="rId12"/>
          <a:stretch/>
        </p:blipFill>
        <p:spPr>
          <a:xfrm>
            <a:off x="3421080" y="836640"/>
            <a:ext cx="504720" cy="5047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4" descr="521"/>
          <p:cNvPicPr/>
          <p:nvPr/>
        </p:nvPicPr>
        <p:blipFill>
          <a:blip r:embed="rId13"/>
          <a:stretch/>
        </p:blipFill>
        <p:spPr>
          <a:xfrm>
            <a:off x="3276720" y="4221000"/>
            <a:ext cx="504720" cy="5050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5" descr="521"/>
          <p:cNvPicPr/>
          <p:nvPr/>
        </p:nvPicPr>
        <p:blipFill>
          <a:blip r:embed="rId14"/>
          <a:stretch/>
        </p:blipFill>
        <p:spPr>
          <a:xfrm>
            <a:off x="539640" y="4941720"/>
            <a:ext cx="505080" cy="5050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6" descr="521"/>
          <p:cNvPicPr/>
          <p:nvPr/>
        </p:nvPicPr>
        <p:blipFill>
          <a:blip r:embed="rId15"/>
          <a:stretch/>
        </p:blipFill>
        <p:spPr>
          <a:xfrm>
            <a:off x="7885080" y="333360"/>
            <a:ext cx="504720" cy="5047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7" descr="521"/>
          <p:cNvPicPr/>
          <p:nvPr/>
        </p:nvPicPr>
        <p:blipFill>
          <a:blip r:embed="rId16"/>
          <a:stretch/>
        </p:blipFill>
        <p:spPr>
          <a:xfrm>
            <a:off x="4067280" y="4941720"/>
            <a:ext cx="504720" cy="5050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8" descr="521"/>
          <p:cNvPicPr/>
          <p:nvPr/>
        </p:nvPicPr>
        <p:blipFill>
          <a:blip r:embed="rId17"/>
          <a:stretch/>
        </p:blipFill>
        <p:spPr>
          <a:xfrm>
            <a:off x="4356000" y="6021360"/>
            <a:ext cx="505080" cy="5047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0" descr="521"/>
          <p:cNvPicPr/>
          <p:nvPr/>
        </p:nvPicPr>
        <p:blipFill>
          <a:blip r:embed="rId18"/>
          <a:stretch/>
        </p:blipFill>
        <p:spPr>
          <a:xfrm>
            <a:off x="611280" y="1844640"/>
            <a:ext cx="504720" cy="5047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1" descr="521"/>
          <p:cNvPicPr/>
          <p:nvPr/>
        </p:nvPicPr>
        <p:blipFill>
          <a:blip r:embed="rId19"/>
          <a:stretch/>
        </p:blipFill>
        <p:spPr>
          <a:xfrm>
            <a:off x="1908000" y="2565360"/>
            <a:ext cx="505080" cy="5047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2" descr="521"/>
          <p:cNvPicPr/>
          <p:nvPr/>
        </p:nvPicPr>
        <p:blipFill>
          <a:blip r:embed="rId20"/>
          <a:stretch/>
        </p:blipFill>
        <p:spPr>
          <a:xfrm>
            <a:off x="5435640" y="5084640"/>
            <a:ext cx="504720" cy="5050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3" descr="521"/>
          <p:cNvPicPr/>
          <p:nvPr/>
        </p:nvPicPr>
        <p:blipFill>
          <a:blip r:embed="rId21"/>
          <a:stretch/>
        </p:blipFill>
        <p:spPr>
          <a:xfrm>
            <a:off x="3059280" y="3357720"/>
            <a:ext cx="504720" cy="5047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4" descr="521"/>
          <p:cNvPicPr/>
          <p:nvPr/>
        </p:nvPicPr>
        <p:blipFill>
          <a:blip r:embed="rId22"/>
          <a:stretch/>
        </p:blipFill>
        <p:spPr>
          <a:xfrm>
            <a:off x="3276720" y="5300640"/>
            <a:ext cx="504720" cy="5047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5" descr="521"/>
          <p:cNvPicPr/>
          <p:nvPr/>
        </p:nvPicPr>
        <p:blipFill>
          <a:blip r:embed="rId23"/>
          <a:stretch/>
        </p:blipFill>
        <p:spPr>
          <a:xfrm>
            <a:off x="4859280" y="5300640"/>
            <a:ext cx="504720" cy="5047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6" descr="521"/>
          <p:cNvPicPr/>
          <p:nvPr/>
        </p:nvPicPr>
        <p:blipFill>
          <a:blip r:embed="rId24"/>
          <a:stretch/>
        </p:blipFill>
        <p:spPr>
          <a:xfrm>
            <a:off x="2482920" y="3573360"/>
            <a:ext cx="504720" cy="5050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7" descr="521"/>
          <p:cNvPicPr/>
          <p:nvPr/>
        </p:nvPicPr>
        <p:blipFill>
          <a:blip r:embed="rId25"/>
          <a:stretch/>
        </p:blipFill>
        <p:spPr>
          <a:xfrm>
            <a:off x="4500720" y="4149720"/>
            <a:ext cx="504720" cy="5047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8" descr="521"/>
          <p:cNvPicPr/>
          <p:nvPr/>
        </p:nvPicPr>
        <p:blipFill>
          <a:blip r:embed="rId26"/>
          <a:stretch/>
        </p:blipFill>
        <p:spPr>
          <a:xfrm>
            <a:off x="6156360" y="260280"/>
            <a:ext cx="504720" cy="5047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9" descr="521"/>
          <p:cNvPicPr/>
          <p:nvPr/>
        </p:nvPicPr>
        <p:blipFill>
          <a:blip r:embed="rId27"/>
          <a:stretch/>
        </p:blipFill>
        <p:spPr>
          <a:xfrm>
            <a:off x="4211640" y="1413000"/>
            <a:ext cx="504720" cy="504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0" descr="a245"/>
          <p:cNvPicPr/>
          <p:nvPr/>
        </p:nvPicPr>
        <p:blipFill>
          <a:blip r:embed="rId28"/>
          <a:stretch/>
        </p:blipFill>
        <p:spPr>
          <a:xfrm>
            <a:off x="4067280" y="4173480"/>
            <a:ext cx="2808360" cy="26845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1" descr="Snowman_4"/>
          <p:cNvPicPr/>
          <p:nvPr/>
        </p:nvPicPr>
        <p:blipFill>
          <a:blip r:embed="rId29"/>
          <a:stretch/>
        </p:blipFill>
        <p:spPr>
          <a:xfrm>
            <a:off x="6399360" y="2714760"/>
            <a:ext cx="274464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9436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521"/>
          <p:cNvPicPr/>
          <p:nvPr/>
        </p:nvPicPr>
        <p:blipFill>
          <a:blip r:embed="rId2"/>
          <a:stretch/>
        </p:blipFill>
        <p:spPr>
          <a:xfrm>
            <a:off x="8388360" y="1197000"/>
            <a:ext cx="431640" cy="4316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521"/>
          <p:cNvPicPr/>
          <p:nvPr/>
        </p:nvPicPr>
        <p:blipFill>
          <a:blip r:embed="rId3"/>
          <a:stretch/>
        </p:blipFill>
        <p:spPr>
          <a:xfrm>
            <a:off x="5651640" y="1197000"/>
            <a:ext cx="431640" cy="4316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521"/>
          <p:cNvPicPr/>
          <p:nvPr/>
        </p:nvPicPr>
        <p:blipFill>
          <a:blip r:embed="rId4"/>
          <a:stretch/>
        </p:blipFill>
        <p:spPr>
          <a:xfrm>
            <a:off x="2556000" y="4437000"/>
            <a:ext cx="431640" cy="432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521"/>
          <p:cNvPicPr/>
          <p:nvPr/>
        </p:nvPicPr>
        <p:blipFill>
          <a:blip r:embed="rId5"/>
          <a:stretch/>
        </p:blipFill>
        <p:spPr>
          <a:xfrm>
            <a:off x="395280" y="3573360"/>
            <a:ext cx="431640" cy="432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8" descr="521"/>
          <p:cNvPicPr/>
          <p:nvPr/>
        </p:nvPicPr>
        <p:blipFill>
          <a:blip r:embed="rId6"/>
          <a:stretch/>
        </p:blipFill>
        <p:spPr>
          <a:xfrm>
            <a:off x="4067280" y="2924280"/>
            <a:ext cx="431640" cy="4316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9" descr="521"/>
          <p:cNvPicPr/>
          <p:nvPr/>
        </p:nvPicPr>
        <p:blipFill>
          <a:blip r:embed="rId7"/>
          <a:stretch/>
        </p:blipFill>
        <p:spPr>
          <a:xfrm>
            <a:off x="468360" y="1341360"/>
            <a:ext cx="431640" cy="432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3" descr="521"/>
          <p:cNvPicPr/>
          <p:nvPr/>
        </p:nvPicPr>
        <p:blipFill>
          <a:blip r:embed="rId8"/>
          <a:stretch/>
        </p:blipFill>
        <p:spPr>
          <a:xfrm>
            <a:off x="4500720" y="5229360"/>
            <a:ext cx="431640" cy="4316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4" descr="521"/>
          <p:cNvPicPr/>
          <p:nvPr/>
        </p:nvPicPr>
        <p:blipFill>
          <a:blip r:embed="rId9"/>
          <a:stretch/>
        </p:blipFill>
        <p:spPr>
          <a:xfrm>
            <a:off x="1979640" y="1700280"/>
            <a:ext cx="431640" cy="4316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5" descr="521"/>
          <p:cNvPicPr/>
          <p:nvPr/>
        </p:nvPicPr>
        <p:blipFill>
          <a:blip r:embed="rId10"/>
          <a:stretch/>
        </p:blipFill>
        <p:spPr>
          <a:xfrm>
            <a:off x="8244000" y="2997360"/>
            <a:ext cx="431640" cy="4316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6" descr="a245"/>
          <p:cNvPicPr/>
          <p:nvPr/>
        </p:nvPicPr>
        <p:blipFill>
          <a:blip r:embed="rId11"/>
          <a:stretch/>
        </p:blipFill>
        <p:spPr>
          <a:xfrm>
            <a:off x="6588000" y="3573360"/>
            <a:ext cx="2808360" cy="26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466383764"/>
          <p:cNvPicPr/>
          <p:nvPr/>
        </p:nvPicPr>
        <p:blipFill>
          <a:blip r:embed="rId2"/>
          <a:stretch/>
        </p:blipFill>
        <p:spPr>
          <a:xfrm>
            <a:off x="755640" y="2205000"/>
            <a:ext cx="500040" cy="57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20" dur="2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7"/>
          <p:cNvPicPr/>
          <p:nvPr/>
        </p:nvPicPr>
        <p:blipFill>
          <a:blip r:embed="rId1"/>
          <a:stretch/>
        </p:blipFill>
        <p:spPr>
          <a:xfrm>
            <a:off x="0" y="-120600"/>
            <a:ext cx="9144000" cy="69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9"/>
          <p:cNvPicPr/>
          <p:nvPr/>
        </p:nvPicPr>
        <p:blipFill>
          <a:blip r:embed="rId1"/>
          <a:stretch/>
        </p:blipFill>
        <p:spPr>
          <a:xfrm>
            <a:off x="0" y="-61920"/>
            <a:ext cx="9144000" cy="696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10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94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31T18:17:15Z</dcterms:created>
  <dc:creator>User</dc:creator>
  <dc:description/>
  <dc:language>en-US</dc:language>
  <cp:lastModifiedBy>User</cp:lastModifiedBy>
  <dcterms:modified xsi:type="dcterms:W3CDTF">2019-04-23T07:08:18Z</dcterms:modified>
  <cp:revision>23</cp:revision>
  <dc:subject/>
  <dc:title>Слайд 1</dc:title>
</cp:coreProperties>
</file>