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CE7C-F6DD-44A3-A2DA-F25F6F56D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1181-C505-4761-B4E6-CE9752D5C7F8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F532-D454-4045-8A58-26019E741B46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197F-BA9E-4234-BB22-F57F9C52D3D8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EB28-3464-4201-87FA-05915A2BB737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B045-8B1F-4242-B179-4B50305D69F0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0F00-BDBF-47EA-947D-8017FCBED58C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39E5-3743-43EC-BC24-E0981211E020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040" y="2724120"/>
            <a:ext cx="348588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icrosoft Sans Serif"/>
              </a:rPr>
              <a:t>Колесо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Microsoft Sans Serif"/>
              </a:rPr>
              <a:t>ФОРТУНЫ</a:t>
            </a:r>
            <a:endParaRPr b="0" lang="en-US" sz="48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40381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icrosoft Sans Serif"/>
              </a:rPr>
              <a:t>1 тур</a:t>
            </a:r>
            <a:endParaRPr b="0" lang="en-US" sz="23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47" name="Picture 9" descr="D:\Мои документы\колесо фортуны\разное\2b3a3c7b645cd1e31231515b8ca779e9.jpg"/>
          <p:cNvPicPr/>
          <p:nvPr/>
        </p:nvPicPr>
        <p:blipFill>
          <a:blip r:embed="rId2"/>
          <a:stretch/>
        </p:blipFill>
        <p:spPr>
          <a:xfrm>
            <a:off x="4492800" y="2054160"/>
            <a:ext cx="304776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icrosoft Sans Serif"/>
              </a:rPr>
              <a:t>Тадеуш Кунце (1733-1793)</a:t>
            </a: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40381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icrosoft Sans Serif"/>
              </a:rPr>
              <a:t>1 тур</a:t>
            </a:r>
            <a:endParaRPr b="0" lang="en-US" sz="23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50" name="Picture 9" descr="D:\Мои документы\колесо фортуны\разное\2b3a3c7b645cd1e31231515b8ca779e9.jpg"/>
          <p:cNvPicPr/>
          <p:nvPr/>
        </p:nvPicPr>
        <p:blipFill>
          <a:blip r:embed="rId1"/>
          <a:stretch/>
        </p:blipFill>
        <p:spPr>
          <a:xfrm>
            <a:off x="7693200" y="298440"/>
            <a:ext cx="1000080" cy="92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esktop\800px-Kuntze-Konicz_Fortune.jpg"/>
          <p:cNvPicPr/>
          <p:nvPr/>
        </p:nvPicPr>
        <p:blipFill>
          <a:blip r:embed="rId2"/>
          <a:stretch/>
        </p:blipFill>
        <p:spPr>
          <a:xfrm>
            <a:off x="457200" y="1251000"/>
            <a:ext cx="74674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icrosoft Sans Serif"/>
              </a:rPr>
              <a:t>Разминка </a:t>
            </a:r>
            <a:r>
              <a:rPr b="1" lang="ru-RU" sz="3200" spc="-1" strike="noStrike">
                <a:solidFill>
                  <a:srgbClr val="ffffff"/>
                </a:solidFill>
                <a:latin typeface="Microsoft Sans Serif"/>
              </a:rPr>
              <a:t>(представление команд)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240" y="40381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icrosoft Sans Serif"/>
              </a:rPr>
              <a:t>1 тур</a:t>
            </a:r>
            <a:endParaRPr b="0" lang="en-US" sz="23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54" name="Picture 9" descr="D:\Мои документы\колесо фортуны\разное\2b3a3c7b645cd1e31231515b8ca779e9.jpg"/>
          <p:cNvPicPr/>
          <p:nvPr/>
        </p:nvPicPr>
        <p:blipFill>
          <a:blip r:embed="rId1"/>
          <a:stretch/>
        </p:blipFill>
        <p:spPr>
          <a:xfrm>
            <a:off x="7693200" y="298440"/>
            <a:ext cx="1000080" cy="920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User\Desktop\img_8775_1000_0.jpg"/>
          <p:cNvPicPr/>
          <p:nvPr/>
        </p:nvPicPr>
        <p:blipFill>
          <a:blip r:embed="rId2"/>
          <a:stretch/>
        </p:blipFill>
        <p:spPr>
          <a:xfrm>
            <a:off x="152280" y="1219320"/>
            <a:ext cx="6491520" cy="432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User\Desktop\Warming-Up.jpg"/>
          <p:cNvPicPr/>
          <p:nvPr/>
        </p:nvPicPr>
        <p:blipFill>
          <a:blip r:embed="rId3"/>
          <a:stretch/>
        </p:blipFill>
        <p:spPr>
          <a:xfrm>
            <a:off x="4379760" y="4495680"/>
            <a:ext cx="4764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94920"/>
            <a:ext cx="7086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crosoft Sans Serif"/>
              </a:rPr>
              <a:t>Экономические антонимы</a:t>
            </a: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7920" y="190476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Microsoft Sans Serif"/>
              </a:rPr>
              <a:t>Найти пары слов- антонимов и записать их. (за каждую пару - 10 фортунчиков)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Microsoft Sans Serif"/>
              </a:rPr>
              <a:t>Банкрот, бедность, богатство, доход, импорт, наемный рабочий, накопление, нувориш (быстро разбогатевший человек), инвестор, общественная собственность, оптовая торговля, потребление, предложение, работодатель, расход, розничная торговля, спрос, частная собственность, экспорт, заемщик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59" name="Picture 9" descr="D:\Мои документы\колесо фортуны\разное\2b3a3c7b645cd1e31231515b8ca779e9.jpg"/>
          <p:cNvPicPr/>
          <p:nvPr/>
        </p:nvPicPr>
        <p:blipFill>
          <a:blip r:embed="rId1"/>
          <a:stretch/>
        </p:blipFill>
        <p:spPr>
          <a:xfrm>
            <a:off x="7693200" y="225360"/>
            <a:ext cx="100008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Users\User\Desktop\6e40d294c6b24534826bf94ac4f449e8.jpg"/>
          <p:cNvPicPr/>
          <p:nvPr/>
        </p:nvPicPr>
        <p:blipFill>
          <a:blip r:embed="rId2"/>
          <a:stretch/>
        </p:blipFill>
        <p:spPr>
          <a:xfrm>
            <a:off x="-311040" y="4035600"/>
            <a:ext cx="333540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icrosoft Sans Serif"/>
              </a:rPr>
              <a:t>Экономическое домино</a:t>
            </a:r>
            <a:endParaRPr b="0" lang="en-US" sz="48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28240" y="40381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icrosoft Sans Serif"/>
              </a:rPr>
              <a:t>1 тур</a:t>
            </a:r>
            <a:endParaRPr b="0" lang="en-US" sz="23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63" name="Picture 9" descr="D:\Мои документы\колесо фортуны\разное\2b3a3c7b645cd1e31231515b8ca779e9.jpg"/>
          <p:cNvPicPr/>
          <p:nvPr/>
        </p:nvPicPr>
        <p:blipFill>
          <a:blip r:embed="rId1"/>
          <a:stretch/>
        </p:blipFill>
        <p:spPr>
          <a:xfrm>
            <a:off x="7693200" y="298440"/>
            <a:ext cx="1000080" cy="92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User\Desktop\875a8375f91de049494d6073098e8a2f_6997b3f36042a157a9f8e736c8e5487e.jpg"/>
          <p:cNvPicPr/>
          <p:nvPr/>
        </p:nvPicPr>
        <p:blipFill>
          <a:blip r:embed="rId2"/>
          <a:stretch/>
        </p:blipFill>
        <p:spPr>
          <a:xfrm>
            <a:off x="228600" y="1371600"/>
            <a:ext cx="6778800" cy="4237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User\Desktop\12391247_448155152042637_3103423189908317471_n.jpg"/>
          <p:cNvPicPr/>
          <p:nvPr/>
        </p:nvPicPr>
        <p:blipFill>
          <a:blip r:embed="rId3"/>
          <a:srcRect l="12820" t="11698" r="12820" b="11378"/>
          <a:stretch/>
        </p:blipFill>
        <p:spPr>
          <a:xfrm>
            <a:off x="6781680" y="4572000"/>
            <a:ext cx="2210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Microsoft Sans Serif"/>
              </a:rPr>
              <a:t>Аукцион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81080" y="1630440"/>
            <a:ext cx="693432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d4d4d"/>
                </a:solidFill>
                <a:latin typeface="Verdana"/>
                <a:ea typeface="굴림"/>
              </a:rPr>
              <a:t>ЭКОНОМИКА </a:t>
            </a:r>
            <a:endParaRPr b="0" lang="en-US" sz="6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68" name="Picture 9" descr="D:\Мои документы\колесо фортуны\разное\2b3a3c7b645cd1e31231515b8ca779e9.jpg"/>
          <p:cNvPicPr/>
          <p:nvPr/>
        </p:nvPicPr>
        <p:blipFill>
          <a:blip r:embed="rId2"/>
          <a:stretch/>
        </p:blipFill>
        <p:spPr>
          <a:xfrm>
            <a:off x="378000" y="987480"/>
            <a:ext cx="100008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User\Desktop\auctioneer21.jpg"/>
          <p:cNvPicPr/>
          <p:nvPr/>
        </p:nvPicPr>
        <p:blipFill>
          <a:blip r:embed="rId3"/>
          <a:stretch/>
        </p:blipFill>
        <p:spPr>
          <a:xfrm>
            <a:off x="2286000" y="2490840"/>
            <a:ext cx="6207120" cy="404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User\Desktop\12590.jpg"/>
          <p:cNvPicPr/>
          <p:nvPr/>
        </p:nvPicPr>
        <p:blipFill>
          <a:blip r:embed="rId4"/>
          <a:srcRect l="33725" t="0" r="28780" b="0"/>
          <a:stretch/>
        </p:blipFill>
        <p:spPr>
          <a:xfrm>
            <a:off x="228600" y="2514600"/>
            <a:ext cx="1628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981080" y="1630440"/>
            <a:ext cx="693432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d4d4d"/>
                </a:solidFill>
                <a:latin typeface="Verdana"/>
                <a:ea typeface="굴림"/>
              </a:rPr>
              <a:t> </a:t>
            </a:r>
            <a:endParaRPr b="0" lang="en-US" sz="6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72" name="Picture 9" descr="D:\Мои документы\колесо фортуны\разное\2b3a3c7b645cd1e31231515b8ca779e9.jpg"/>
          <p:cNvPicPr/>
          <p:nvPr/>
        </p:nvPicPr>
        <p:blipFill>
          <a:blip r:embed="rId1"/>
          <a:stretch/>
        </p:blipFill>
        <p:spPr>
          <a:xfrm>
            <a:off x="7765920" y="225360"/>
            <a:ext cx="1006560" cy="9144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53352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74" name="Picture 2" descr="C:\Users\User\Desktop\Depositphotos_11032444_s.jpg"/>
          <p:cNvPicPr/>
          <p:nvPr/>
        </p:nvPicPr>
        <p:blipFill>
          <a:blip r:embed="rId2"/>
          <a:stretch/>
        </p:blipFill>
        <p:spPr>
          <a:xfrm>
            <a:off x="914400" y="1219320"/>
            <a:ext cx="672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User</cp:lastModifiedBy>
  <dcterms:modified xsi:type="dcterms:W3CDTF">2018-11-15T02:55:20Z</dcterms:modified>
  <cp:revision>397</cp:revision>
  <dc:subject/>
  <dc:title>Name of presentation</dc:title>
</cp:coreProperties>
</file>