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68B91-9E06-4762-94B4-7355A6283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BCE36-998C-4364-A6BF-5F3519027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A6243-ACE7-43E1-8818-05819A384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36C74-02FC-4AD3-AC43-CAF51296E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71FCF6-8FB7-492F-9A8D-43D984B5C7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5B2FAB-49BD-48C1-BEE2-2E583E8D0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F63A8-E2FB-456D-8021-A56F52B1E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65331-1154-4D74-B309-EE9C94DC4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381B6-5028-401A-A646-A30EE6654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E8B1C-0640-4EAE-A48B-E8ED051AD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2F70D-2B54-4040-8A21-CD301B371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1E9C7-B2D0-4566-968E-471024FF0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D14BE-1993-43AC-B273-6C6C9CE81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411E4-6D8B-48E2-B218-5AE053822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C7306-2207-44D6-98AE-AF9F44250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AACD92-CC00-4CAB-94C8-41881E1676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CEF849-0F69-4AC1-8D56-ACC6CA7F0C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BDDEA-1C80-4957-8E32-B5A912777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E96F9-ED46-4E0B-95EA-2DFC903C9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3018A-17E8-4846-B13B-879E7E735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FFBC9-AF93-4B73-A0F8-4DFFAE93C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B1D24-1408-4EED-9E2E-3AADDDD2B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6D3A4-9BE0-44AE-96E2-C42CD2BD3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30FAF-1122-4E43-AC1C-6C9F5CCB2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04E06-55A8-495B-86A4-93624FF9EA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F9BA9-64EC-407C-9AB5-FA9F3C2DC2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620640"/>
            <a:ext cx="7772400" cy="302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1" lang="en-US" sz="8000" spc="-1" strike="noStrike">
                <a:solidFill>
                  <a:srgbClr val="ffffb7"/>
                </a:solidFill>
                <a:latin typeface="Arial Black"/>
              </a:rPr>
              <a:t>Об агрессии, капризах и упрямстве</a:t>
            </a:r>
            <a:endParaRPr b="1" lang="en-US" sz="8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Причины капризов</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У детей второго-третьего года жизни капризы часто связаны с неудовлетворением естественных потребностей (хочет есть, пить, спать), с ощущением дискомфорта (замерз, жарко, тесная обувь, одежда, затрудняющая движения, неудобная постель и т. п. ). Подобные проявления нельзя считать капризами. Достаточно устранить причины, создающие неудобства, и ребенок снова успокоится.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Негативизм</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Ярко выраженный негативизм - это не просто нежелание выполнять какие-то указания взрослого, не просто непослушание, а стремление делать все наоборот. Причем такое стремление проявляется как будто даже против воли самого ребенка и часто в ущерб его собственным интересам. Кажется, что в него вселилось постороннее существо, заставляющее перечить окружающим и в словах, и в поступках. Суть негативизма заключается в том, что ребенок не делает чего-то только потому, что его об этом попросили.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837720" y="476280"/>
            <a:ext cx="8007480" cy="561960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Период упрямства и капризности начинается Что необходимо примерно с 18 месяцев. знать родителям о • Как правило, эта фаза заканчивается к 3, 5 - 4 детском упрямстве годам. Случайные приступы упрямства в более и капризности: старшем возрасте – тоже вещь вполне нормальная. • Пик упрямства приходится на 2, 5 - 3 года жизни. • Мальчики упрямятся сильнее, чем девочки. • Девочки капризничают чаще, чем мальчики. • В кризисный период приступы упрямства и капризности случаются у детей по 5 раз в день. У некоторых детей – до 19 раз! • Если дети по достижению 4 лет всё ещё продолжают часто упрямиться и капризничать, то, вероятнее всего речь идёт о «фиксированном упрямстве» , истеричности, как удобных способах манипулирования ребёнком своими родителями. Чаще всего это результат соглашательского поведения родителей, поддавшихся нажиму со стороны ребёнка, нередко ради своего спокойствия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Как реагировать на капризы и упрямство?</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Не предавайте большого значения упрямству и капризности. Примите к сведению приступ, но не очень волнуйтесь за ребёнка. • Во время приступа оставайтесь рядом, дайте ему почувствовать, что вы его понимаете. • Не пытайтесь в это время что-либо внушать своему ребёнку – это бесполезно. Ругань не имеет смысла, шлепки ещё сильнее его возбуждают. • Будьте в поведении с ребёнком настойчивы, если сказали "нет", оставайтесь и дальше при этом мнении. • Не сдавайтесь даже тогда, когда приступ ребёнка протекает в общественном месте. Чаще всего помогает только одно – взять его за руку и увести.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837720" y="333000"/>
            <a:ext cx="8007480" cy="57625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800" spc="-1" strike="noStrike">
                <a:solidFill>
                  <a:srgbClr val="ffffff"/>
                </a:solidFill>
                <a:latin typeface="Times New Roman"/>
              </a:rPr>
              <a:t>Истеричность и капризность требует зрителей, не прибегайте к помощи посторонних: "Посмотрите, какая плохая девочка, ай-яй-яй!". Ребёнку только этого и нужно. • Постарайтесь схитрить: "Ох, какая у меня есть интересная игрушка (книжка, штучка)!". Подобные отвлекающие манёвры заинтересуют капризулю и он успокоится. • Исключите из арсенала грубый тон, резкость, стремление " сломить силой авторитета". • Спокойный тон общения, без раздражительности. • Уступки имеют место быть, если они педагогически целесообразны, оправданы логикой воспитательного процесса.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Предупреждение капризности</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ледующие моменты очень важны в предупреждении и в борьбе с упрямством и капризами. Речь пойдёт о гуманизации отношений между родителями и детьми, а именно о том, в каких случаях ребёнка нельзя наказывать и ругать, когда можно и нужно хвалить.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Похвала</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НЕЛЬЗЯ ХВАЛИТЬ ЗА ТО, ЧТО: • достигнуто не своим трудом. • не подлежит похвале (красота, сила, ловкость, ум). • из жалости или желания понравиться. НАДО ХВАЛИТЬ: • за поступок, за свершившееся действие. • начинать сотрудничать с ребёнком всегда с похвалы, одобрения. • очень важно похвалить ребёнка с утра, как можно раньше и на ночь тоже. • уметь хвалить не хваля (пример: попросить о помощи, совет, как у взрослого).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НЕЛЬЗЯ НАКАЗЫВАТЬ И РУГАТЬ КОГДА:</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a:t>
            </a:r>
            <a:r>
              <a:rPr b="0" lang="en-US" sz="2400" spc="-1" strike="noStrike">
                <a:solidFill>
                  <a:srgbClr val="ffffff"/>
                </a:solidFill>
                <a:latin typeface="Arial"/>
              </a:rPr>
              <a:t>ребёнок болен, испытывает недомогание или оправился после болезни т. к. в это время психика ребёнка уязвима и реакция непредсказуема. • когда ребёнок ест, сразу после сна и перед сном. • во всех случаях, когда что-то не получается (пример: когда вы торопитесь, а ребёнок не может завязать шнурки). • после физической или душевной травмы (пример: ребёнок упал, вы ругаете за это, считая, что он виноват). • когда ребёнок не справился со страхом, невнимательностью, подвижностью и т. д. , но очень старался. • когда внутренние мотивы его поступка вам не понятны. • когда вы сами не в себе.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7 правил наказания</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наказание не должно вредить здоровью. • если есть сомнения, то лучше не наказывать (пример: вы не уверены, что проступок совершил именно ваш ребёнок, или вы сомневаетесь в том что совершённое действие вообще достойно наказания, т. е. наказывать "на всякий случай" нельзя. • за 1 проступок – одно наказание (нельзя припоминать старые грехи). • лучше не наказывать, чем наказывать с опозданием. • надо наказывать и вскоре прощать. • если ребёнок считает, что вы несправедливы, то не будет эффекта, поэтому важно объяснить ребенку, за что и почему он наказан. • ребёнок не должен бояться наказания.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Детские капризы и упрямство</a:t>
            </a:r>
            <a:endParaRPr b="1" lang="en-US" sz="4000" spc="-1" strike="noStrike">
              <a:solidFill>
                <a:srgbClr val="ffffb7"/>
              </a:solidFill>
              <a:latin typeface="Arial Black"/>
            </a:endParaRPr>
          </a:p>
        </p:txBody>
      </p:sp>
      <p:sp>
        <p:nvSpPr>
          <p:cNvPr id="100" name="PlaceHolder 2"/>
          <p:cNvSpPr>
            <a:spLocks noGrp="1"/>
          </p:cNvSpPr>
          <p:nvPr>
            <p:ph/>
          </p:nvPr>
        </p:nvSpPr>
        <p:spPr>
          <a:xfrm>
            <a:off x="178920" y="1989000"/>
            <a:ext cx="5040360" cy="4106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Одним из наиболее частых запросов, с которым приходится сталкиваться психологу в его повседневной практике, является обращение родителей по поводу "необъяснимого" перевоплощения их "милых ангелочков" в "ужасных монстров", каждодневно терроризирующих всю семью деспотическими, унижающими достоинство взрослых, требованиями.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1" name="" descr=""/>
          <p:cNvPicPr/>
          <p:nvPr/>
        </p:nvPicPr>
        <p:blipFill>
          <a:blip r:embed="rId1"/>
          <a:stretch/>
        </p:blipFill>
        <p:spPr>
          <a:xfrm>
            <a:off x="5508720" y="2133720"/>
            <a:ext cx="3181320" cy="352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Закономерный этап?</a:t>
            </a:r>
            <a:endParaRPr b="1" lang="en-US" sz="4400" spc="-1" strike="noStrike">
              <a:solidFill>
                <a:srgbClr val="ffffb7"/>
              </a:solidFill>
              <a:latin typeface="Arial Black"/>
            </a:endParaRPr>
          </a:p>
        </p:txBody>
      </p:sp>
      <p:sp>
        <p:nvSpPr>
          <p:cNvPr id="103" name="PlaceHolder 2"/>
          <p:cNvSpPr>
            <a:spLocks noGrp="1"/>
          </p:cNvSpPr>
          <p:nvPr>
            <p:ph/>
          </p:nvPr>
        </p:nvSpPr>
        <p:spPr>
          <a:xfrm>
            <a:off x="323640" y="1844280"/>
            <a:ext cx="8280360" cy="425124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 настоящий момент, в среде родителей, наиболее распространенной является точка зрения, что капризы и истерики - это закономерный этап в развитии детей младшего дошкольного возраста, что таким образом они познают мир человеческих взаимоотношений, определяют границы дозволенного и недозволенного, и, в конце концов, "само пройдет".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Смешение различных понятий</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На самом деле происходит смешение различных понятий: с одной стороны, негативизм, упрямство, строптивость, своеволие, обесценивание взрослых, являющиеся выражением закономерностей детского развития, а с другой - капризы и истерики, являющиеся отражением неправильной стратегии поведения родителей. Каприз, истерика - это следствие родительского нежелания "идти на поводу у баловника". Это также сигнал родителям о том, что они ведут себя с ребенком неправильно, не адекватно его возрастным возможностям, предъявляя "неразумные" требования к "маленькому тирану".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Возраст негативизма и упрямства</a:t>
            </a:r>
            <a:endParaRPr b="1" lang="en-US" sz="4400" spc="-1" strike="noStrike">
              <a:solidFill>
                <a:srgbClr val="ffffb7"/>
              </a:solidFill>
              <a:latin typeface="Arial Black"/>
            </a:endParaRPr>
          </a:p>
        </p:txBody>
      </p:sp>
      <p:sp>
        <p:nvSpPr>
          <p:cNvPr id="107" name="PlaceHolder 2"/>
          <p:cNvSpPr>
            <a:spLocks noGrp="1"/>
          </p:cNvSpPr>
          <p:nvPr>
            <p:ph/>
          </p:nvPr>
        </p:nvSpPr>
        <p:spPr>
          <a:xfrm>
            <a:off x="323640" y="1905120"/>
            <a:ext cx="8521560" cy="454824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На третьем-четвертом году жизни мир ребенка, характеризующийся его неотделимой от взрослого позицией, превращается в мир "Я", для построения которого необходима выработка собственной внутренней позиции ребенка. Для того чтобы впоследствии установить новые, более высокие взаимоотношения с окружающим взрослым миром, ребенку необходимо пройти этап отделения себя от предметов и живых существ, с которыми первоначально он ощущал неделимую связь.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68360" y="476280"/>
            <a:ext cx="8377200" cy="5619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отест ребенка - это не самоцель, это только способ, с помощью которого ребенок отстаивает себя, свое право на отдельное существование. Ведь очень часто малыш, добиваясь именно того, что ему запрещали, ощущает разочарование. Поэтому очень важно разрешить ребенку все, кроме основополагающего запрета: на действия, в результате которых может пострадать его собственное здоровье или здоровье и благополучие других люде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УПРЯМСТВО</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3290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Упрямство может стать чертой характера, если не принять меры к его преодолению. С течением времени оно порождает детскую лживость, может привести к расстройству нервной системы, неврозам, раздражительности. Если такие проявления, ещё в дошкольном возрасте, из реактивных состояний переходят в хронические, то возникает начальная стадия педагогической запущенности.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837720" y="692280"/>
            <a:ext cx="8007480" cy="540360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УПРЯМСТВО – это психологическое состояние, очень близкое к негативизму. Это отрицательная особенность поведения человека, выражающаяся в необоснованном и нерациональном противодействии просьбам, советам, требованиям других людей. Вид упорного непослушания, для которого нет видимых мотивов. • Проявления упрямства: • в желании продолжить начатое действие даже в тех случаях, когда ясно, что оно бессмысленно, не приносит пользы. • выступает как психологическая защита и имеет избирательный характер, т. е. ребёнок понял, что совершил ошибку, но не хочет в это признаваться, и поэтому " стоит на своём".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КАПРИЗЫ</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Капризы - это действия, которые лишены разумного основания, т. е. " Я так хочу и всё!!!". Они вызываются слабостью ребёнка и в определённой степени тоже выступают как форма самозащиты. Проявления капризов: • в желании продолжить начатое действие даже в тех случаях, когда ясно, что оно бессмысленно, не приносит пользы. • в недовольстве, раздражительности, плаче. • в двигательном перевозбуждении. Развитию капризов способствует неокрепшая нервная система.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3-07T12:03:49Z</dcterms:created>
  <dc:creator>Admin</dc:creator>
  <dc:description/>
  <dc:language>en-US</dc:language>
  <cp:lastModifiedBy>Admin</cp:lastModifiedBy>
  <dcterms:modified xsi:type="dcterms:W3CDTF">2019-03-11T06:36:24Z</dcterms:modified>
  <cp:revision>3</cp:revision>
  <dc:subject/>
  <dc:title>Об агрессии, капризах и упрямстве</dc:title>
</cp:coreProperties>
</file>